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png" ContentType="image/png"/>
  <Override PartName="/ppt/media/image10.png" ContentType="image/png"/>
  <Override PartName="/ppt/media/image6.jpeg" ContentType="image/jpeg"/>
  <Override PartName="/ppt/media/image9.png" ContentType="image/png"/>
  <Override PartName="/ppt/media/image12.png" ContentType="image/png"/>
  <Override PartName="/ppt/media/image18.png" ContentType="image/png"/>
  <Override PartName="/ppt/media/image15.jpeg" ContentType="image/jpeg"/>
  <Override PartName="/ppt/media/image16.jpeg" ContentType="image/jpe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2B81-6361-4E4E-A9C6-7E7B91C64C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1DED6-A39D-471F-84F6-EDEEAE565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C3E7C-3578-426A-B60E-5B34706B8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6DDB9-5D81-42A7-9D5D-31A8F6355D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E0B418-AF92-4332-930B-AB5387E71B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FF44F-8E72-4347-AF37-8CDB0BC1D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7DDB7-F28A-4587-B8C5-718919B64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5A0FC-F12B-4C4B-976A-B4C4F4399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10E369-2ECF-4E2C-B83D-12D52FF27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82EF34-0050-4614-B6B8-2C129F2FC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E7677-A242-4767-A8E0-3E5B41B7B9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83B44-B962-4335-8A6D-DA4F978D4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0FB583-43A6-4ADA-A77C-C03D4BC16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9ED6D-7178-4F55-BFC5-2AA5AEB8E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A6F04-CDB7-4DC7-B977-F65A4B3D4A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3EB0B-E547-4CAA-9929-148E12E9F1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A98FBC-3966-4674-A485-CC7DD3CF43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A16C6-E949-4E24-B609-54DDC2104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E077D-9FEE-429E-AB9B-B27167BC4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5AE16-67FA-4BEE-8594-C18002014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F1660-5978-458C-9E8D-55ADD83F9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9A5891-C55D-446A-AD22-2F559D676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62695-1C1B-4E5B-93FA-16F3BB97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BAF6F-5940-4005-8F07-D63FC0166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641218-BD44-464D-B9B7-76459E06BD15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6B194-E613-4912-9F15-538F281B9953}" type="slidenum">
              <a:rPr b="0" lang="ru-RU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imgpic.com/coments.php?id=196" TargetMode="External"/><Relationship Id="rId2" Type="http://schemas.openxmlformats.org/officeDocument/2006/relationships/hyperlink" Target="http://imgpic.com/coments.php?id=196" TargetMode="External"/><Relationship Id="rId3" Type="http://schemas.openxmlformats.org/officeDocument/2006/relationships/hyperlink" Target="http://imgpic.com/coments.php?id=196" TargetMode="External"/><Relationship Id="rId4" Type="http://schemas.openxmlformats.org/officeDocument/2006/relationships/hyperlink" Target="http://myflowerz.ru/?page_id=161" TargetMode="External"/><Relationship Id="rId5" Type="http://schemas.openxmlformats.org/officeDocument/2006/relationships/hyperlink" Target="http://myflowerz.ru/?page_id=161" TargetMode="External"/><Relationship Id="rId6" Type="http://schemas.openxmlformats.org/officeDocument/2006/relationships/hyperlink" Target="http://myflowerz.ru/?page_id=161" TargetMode="External"/><Relationship Id="rId7" Type="http://schemas.openxmlformats.org/officeDocument/2006/relationships/hyperlink" Target="http://www.savaserlin.ru/View_full_story.php?foto_cat=%20Polypodiophyta&amp;Story_ID=774&amp;from_fc=0" TargetMode="External"/><Relationship Id="rId8" Type="http://schemas.openxmlformats.org/officeDocument/2006/relationships/hyperlink" Target="http://www.savaserlin.ru/View_full_story.php?foto_cat=%20Polypodiophyta&amp;Story_ID=774&amp;from_fc=0" TargetMode="External"/><Relationship Id="rId9" Type="http://schemas.openxmlformats.org/officeDocument/2006/relationships/hyperlink" Target="http://www.savaserlin.ru/View_full_story.php?foto_cat=%20Polypodiophyta&amp;Story_ID=774&amp;from_fc=0" TargetMode="External"/><Relationship Id="rId10" Type="http://schemas.openxmlformats.org/officeDocument/2006/relationships/hyperlink" Target="http://clubs.ya.ru/4611686018427419742/replies.xml?item_no=7671" TargetMode="External"/><Relationship Id="rId1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0c81727bde41"/>
          <p:cNvPicPr/>
          <p:nvPr/>
        </p:nvPicPr>
        <p:blipFill>
          <a:blip r:embed="rId1"/>
          <a:stretch/>
        </p:blipFill>
        <p:spPr>
          <a:xfrm>
            <a:off x="3986280" y="2874960"/>
            <a:ext cx="5157720" cy="39830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7" descr="0c81727bde41"/>
          <p:cNvPicPr/>
          <p:nvPr/>
        </p:nvPicPr>
        <p:blipFill>
          <a:blip r:embed="rId2"/>
          <a:stretch/>
        </p:blipFill>
        <p:spPr>
          <a:xfrm>
            <a:off x="0" y="2874960"/>
            <a:ext cx="5157720" cy="398304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900000" y="692280"/>
            <a:ext cx="762336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0000"/>
                </a:solidFill>
                <a:latin typeface="Arial Black"/>
              </a:rPr>
              <a:t>РАЗНООБРАЗИЕ</a:t>
            </a:r>
            <a:br>
              <a:rPr sz="5000"/>
            </a:br>
            <a:r>
              <a:rPr b="1" lang="en-US" sz="5000" spc="-1" strike="noStrike">
                <a:solidFill>
                  <a:srgbClr val="ff0000"/>
                </a:solidFill>
                <a:latin typeface="Arial Black"/>
              </a:rPr>
              <a:t>РАСТЕНИЙ</a:t>
            </a:r>
            <a:br>
              <a:rPr sz="5000"/>
            </a:br>
            <a:r>
              <a:rPr b="1" lang="en-US" sz="5000" spc="-1" strike="noStrike">
                <a:solidFill>
                  <a:srgbClr val="ff0000"/>
                </a:solidFill>
                <a:latin typeface="Arial Black"/>
              </a:rPr>
              <a:t>особенности внешнего строения растений</a:t>
            </a:r>
            <a:endParaRPr b="0" lang="en-US" sz="5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9" name="TextBox 1"/>
          <p:cNvSpPr/>
          <p:nvPr/>
        </p:nvSpPr>
        <p:spPr>
          <a:xfrm>
            <a:off x="4788000" y="5303880"/>
            <a:ext cx="4356000" cy="1557000"/>
          </a:xfrm>
          <a:prstGeom prst="rect">
            <a:avLst/>
          </a:prstGeom>
          <a:solidFill>
            <a:srgbClr val="7ac96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Автор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: учитель биолог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ГБОУ ЦО №145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Водопьяно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Марина Александр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33"/>
                </a:solidFill>
                <a:latin typeface="Garamond"/>
              </a:rPr>
              <a:t>Споровые растения</a:t>
            </a:r>
            <a:endParaRPr b="0" lang="en-US" sz="6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Picture 2" descr="Картинка 6 из 957"/>
          <p:cNvPicPr/>
          <p:nvPr/>
        </p:nvPicPr>
        <p:blipFill>
          <a:blip r:embed="rId1"/>
          <a:stretch/>
        </p:blipFill>
        <p:spPr>
          <a:xfrm>
            <a:off x="539640" y="1484280"/>
            <a:ext cx="4724640" cy="345132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3" name="Picture 4" descr="Картинка 3 из 20375"/>
          <p:cNvPicPr/>
          <p:nvPr/>
        </p:nvPicPr>
        <p:blipFill>
          <a:blip r:embed="rId2"/>
          <a:stretch/>
        </p:blipFill>
        <p:spPr>
          <a:xfrm>
            <a:off x="5724360" y="1557360"/>
            <a:ext cx="3048120" cy="410364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44" name="Picture 6" descr="http://www.murman.ru/flora/pictures/p200112.jpg"/>
          <p:cNvPicPr/>
          <p:nvPr/>
        </p:nvPicPr>
        <p:blipFill>
          <a:blip r:embed="rId3"/>
          <a:stretch/>
        </p:blipFill>
        <p:spPr>
          <a:xfrm>
            <a:off x="2700360" y="3808440"/>
            <a:ext cx="4475160" cy="304956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33"/>
                </a:solidFill>
                <a:latin typeface="Garamond"/>
              </a:rPr>
              <a:t>Споровые растения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46" name="Picture 2" descr="http://www.savaserlin.ru/resize_image.php?sw=700&amp;sh=550&amp;image=pictures/774_1.jpg"/>
          <p:cNvPicPr/>
          <p:nvPr/>
        </p:nvPicPr>
        <p:blipFill>
          <a:blip r:embed="rId1"/>
          <a:stretch/>
        </p:blipFill>
        <p:spPr>
          <a:xfrm>
            <a:off x="969840" y="1268280"/>
            <a:ext cx="7272360" cy="485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33"/>
                </a:solidFill>
                <a:latin typeface="Garamond"/>
              </a:rPr>
              <a:t>Домашнее задание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48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§ 2, вопросы на с. 16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 txBox="1"/>
          <p:nvPr/>
        </p:nvSpPr>
        <p:spPr>
          <a:xfrm>
            <a:off x="457200" y="188640"/>
            <a:ext cx="8229600" cy="594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2"/>
              </a:rPr>
              <a:t>imgpic.com/coments.php?id</a:t>
            </a: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3"/>
              </a:rPr>
              <a:t>=19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4"/>
              </a:rPr>
              <a:t>http://</a:t>
            </a: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5"/>
              </a:rPr>
              <a:t>myflowerz.ru/?page_id</a:t>
            </a: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6"/>
              </a:rPr>
              <a:t>=16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7"/>
              </a:rPr>
              <a:t>http://</a:t>
            </a: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8"/>
              </a:rPr>
              <a:t>www.savaserlin.ru/View_full_story.php?foto_cat</a:t>
            </a: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9"/>
              </a:rPr>
              <a:t>=%20Polypodiophyta&amp;Story_ID=774&amp;from_fc=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6600"/>
                </a:solidFill>
                <a:uFillTx/>
                <a:latin typeface="Arial"/>
                <a:hlinkClick r:id="rId10"/>
              </a:rPr>
              <a:t>http://clubs.ya.ru/4611686018427419742/replies.xml?item_no=767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kiev-forum.com.ua/entries/532-%D0%9B%D0%B5%D0%BA%D0%B0%D1%80%D1%81%D1%82%D0%B2%D0%B5%D0%BD%D0%BD%D1%8B%D0%B5-%D1%82%D1%80%D0%B0%D0%B2%D1%8B-%D0%A5%D0%B2%D0%BE%D1%89-%D0%BF%D0%BE%D0%BB%D0%B5%D0%B2%D0%BE%D0%B9?s=bec6c876f2649a998c1098f410b5991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murman.ru/flora/data/1200112.s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namonitore.ru/wallpapers/big/shishka_1_1600.htm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Содержимое 3" descr=""/>
          <p:cNvPicPr/>
          <p:nvPr/>
        </p:nvPicPr>
        <p:blipFill>
          <a:blip r:embed="rId1"/>
          <a:stretch/>
        </p:blipFill>
        <p:spPr>
          <a:xfrm>
            <a:off x="463680" y="334800"/>
            <a:ext cx="8242200" cy="35974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7" descr="180x120"/>
          <p:cNvPicPr/>
          <p:nvPr/>
        </p:nvPicPr>
        <p:blipFill>
          <a:blip r:embed="rId2"/>
          <a:stretch/>
        </p:blipFill>
        <p:spPr>
          <a:xfrm>
            <a:off x="1023840" y="3932280"/>
            <a:ext cx="2773440" cy="41259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8" descr="можжев"/>
          <p:cNvPicPr/>
          <p:nvPr/>
        </p:nvPicPr>
        <p:blipFill>
          <a:blip r:embed="rId3"/>
          <a:stretch/>
        </p:blipFill>
        <p:spPr>
          <a:xfrm>
            <a:off x="5419800" y="3932280"/>
            <a:ext cx="2773440" cy="40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Picture 8" descr="0c81727bde41"/>
          <p:cNvPicPr/>
          <p:nvPr/>
        </p:nvPicPr>
        <p:blipFill>
          <a:blip r:embed="rId1"/>
          <a:stretch/>
        </p:blipFill>
        <p:spPr>
          <a:xfrm>
            <a:off x="3986280" y="2874960"/>
            <a:ext cx="5157720" cy="39830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8" descr="0c81727bde41"/>
          <p:cNvPicPr/>
          <p:nvPr/>
        </p:nvPicPr>
        <p:blipFill>
          <a:blip r:embed="rId2"/>
          <a:stretch/>
        </p:blipFill>
        <p:spPr>
          <a:xfrm>
            <a:off x="0" y="2874960"/>
            <a:ext cx="5157720" cy="3983040"/>
          </a:xfrm>
          <a:prstGeom prst="rect">
            <a:avLst/>
          </a:prstGeom>
          <a:ln w="0">
            <a:noFill/>
          </a:ln>
        </p:spPr>
      </p:pic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800" spc="-1" strike="noStrike">
                <a:solidFill>
                  <a:srgbClr val="006633"/>
                </a:solidFill>
                <a:latin typeface="Garamond"/>
              </a:rPr>
              <a:t>ОРГАН</a:t>
            </a:r>
            <a:endParaRPr b="0" lang="en-US" sz="88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96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это часть организма растения, выполняющая в нем определенную функцию и имеющая особое стро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33"/>
                </a:solidFill>
                <a:latin typeface="Garamond"/>
              </a:rPr>
              <a:t>Органы растений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grpSp>
        <p:nvGrpSpPr>
          <p:cNvPr id="98" name="Группа 8"/>
          <p:cNvGrpSpPr/>
          <p:nvPr/>
        </p:nvGrpSpPr>
        <p:grpSpPr>
          <a:xfrm>
            <a:off x="2411280" y="1278000"/>
            <a:ext cx="4321440" cy="5580000"/>
            <a:chOff x="2411280" y="1278000"/>
            <a:chExt cx="4321440" cy="5580000"/>
          </a:xfrm>
        </p:grpSpPr>
        <p:pic>
          <p:nvPicPr>
            <p:cNvPr id="99" name="Picture 2" descr="http://plantsblog.ru/wp-content/uploads/2012/05/organy-rastenij_5.jpg"/>
            <p:cNvPicPr/>
            <p:nvPr/>
          </p:nvPicPr>
          <p:blipFill>
            <a:blip r:embed="rId1"/>
            <a:stretch/>
          </p:blipFill>
          <p:spPr>
            <a:xfrm>
              <a:off x="2411280" y="1278000"/>
              <a:ext cx="4321440" cy="55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Прямоугольник 5"/>
            <p:cNvSpPr/>
            <p:nvPr/>
          </p:nvSpPr>
          <p:spPr>
            <a:xfrm>
              <a:off x="2555640" y="5805720"/>
              <a:ext cx="1079640" cy="21564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Прямоугольник 7"/>
            <p:cNvSpPr/>
            <p:nvPr/>
          </p:nvSpPr>
          <p:spPr>
            <a:xfrm>
              <a:off x="3635280" y="5950080"/>
              <a:ext cx="865080" cy="7128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Прямая соединительная линия 10"/>
          <p:cNvSpPr/>
          <p:nvPr/>
        </p:nvSpPr>
        <p:spPr>
          <a:xfrm>
            <a:off x="755640" y="4581360"/>
            <a:ext cx="74883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Левая фигурная скобка 13"/>
          <p:cNvSpPr/>
          <p:nvPr/>
        </p:nvSpPr>
        <p:spPr>
          <a:xfrm>
            <a:off x="611280" y="1268280"/>
            <a:ext cx="647640" cy="3240360"/>
          </a:xfrm>
          <a:custGeom>
            <a:avLst/>
            <a:gdLst>
              <a:gd name="textAreaLeft" fmla="*/ 414000 w 647640"/>
              <a:gd name="textAreaRight" fmla="*/ 648000 w 647640"/>
              <a:gd name="textAreaTop" fmla="*/ 16560 h 3240360"/>
              <a:gd name="textAreaBottom" fmla="*/ 3223800 h 324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80"/>
                  <a:pt x="10800" y="360"/>
                </a:cubicBezTo>
                <a:lnTo>
                  <a:pt x="10800" y="10440"/>
                </a:lnTo>
                <a:cubicBezTo>
                  <a:pt x="10800" y="10620"/>
                  <a:pt x="5400" y="10800"/>
                  <a:pt x="0" y="10800"/>
                </a:cubicBezTo>
                <a:cubicBezTo>
                  <a:pt x="5400" y="10800"/>
                  <a:pt x="10800" y="10980"/>
                  <a:pt x="10800" y="11160"/>
                </a:cubicBezTo>
                <a:lnTo>
                  <a:pt x="10800" y="21240"/>
                </a:lnTo>
                <a:cubicBezTo>
                  <a:pt x="10800" y="2142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Левая фигурная скобка 14"/>
          <p:cNvSpPr/>
          <p:nvPr/>
        </p:nvSpPr>
        <p:spPr>
          <a:xfrm>
            <a:off x="684360" y="4581360"/>
            <a:ext cx="574560" cy="2276640"/>
          </a:xfrm>
          <a:custGeom>
            <a:avLst/>
            <a:gdLst>
              <a:gd name="textAreaLeft" fmla="*/ 367200 w 574560"/>
              <a:gd name="textAreaRight" fmla="*/ 574920 w 574560"/>
              <a:gd name="textAreaTop" fmla="*/ 14760 h 2276640"/>
              <a:gd name="textAreaBottom" fmla="*/ 2261880 h 2276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27"/>
                  <a:pt x="10800" y="454"/>
                </a:cubicBezTo>
                <a:lnTo>
                  <a:pt x="10800" y="10346"/>
                </a:lnTo>
                <a:cubicBezTo>
                  <a:pt x="10800" y="10573"/>
                  <a:pt x="5400" y="10800"/>
                  <a:pt x="0" y="10800"/>
                </a:cubicBezTo>
                <a:cubicBezTo>
                  <a:pt x="5400" y="10800"/>
                  <a:pt x="10800" y="11027"/>
                  <a:pt x="10800" y="11254"/>
                </a:cubicBezTo>
                <a:lnTo>
                  <a:pt x="10800" y="21146"/>
                </a:lnTo>
                <a:cubicBezTo>
                  <a:pt x="10800" y="21373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Box 15"/>
          <p:cNvSpPr/>
          <p:nvPr/>
        </p:nvSpPr>
        <p:spPr>
          <a:xfrm flipH="1" rot="16200000">
            <a:off x="-819000" y="2231280"/>
            <a:ext cx="23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Побег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Box 16"/>
          <p:cNvSpPr/>
          <p:nvPr/>
        </p:nvSpPr>
        <p:spPr>
          <a:xfrm rot="16200000">
            <a:off x="-728280" y="5425920"/>
            <a:ext cx="2160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Корень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7" name="Группа 38"/>
          <p:cNvGrpSpPr/>
          <p:nvPr/>
        </p:nvGrpSpPr>
        <p:grpSpPr>
          <a:xfrm>
            <a:off x="4500720" y="1125360"/>
            <a:ext cx="4174920" cy="2447640"/>
            <a:chOff x="4500720" y="1125360"/>
            <a:chExt cx="4174920" cy="2447640"/>
          </a:xfrm>
        </p:grpSpPr>
        <p:grpSp>
          <p:nvGrpSpPr>
            <p:cNvPr id="108" name="Группа 23"/>
            <p:cNvGrpSpPr/>
            <p:nvPr/>
          </p:nvGrpSpPr>
          <p:grpSpPr>
            <a:xfrm>
              <a:off x="4500720" y="1413360"/>
              <a:ext cx="2159280" cy="2159640"/>
              <a:chOff x="4500720" y="1413360"/>
              <a:chExt cx="2159280" cy="2159640"/>
            </a:xfrm>
          </p:grpSpPr>
          <p:sp>
            <p:nvSpPr>
              <p:cNvPr id="109" name="Прямая соединительная линия 20"/>
              <p:cNvSpPr/>
              <p:nvPr/>
            </p:nvSpPr>
            <p:spPr>
              <a:xfrm>
                <a:off x="4500720" y="1413360"/>
                <a:ext cx="2159280" cy="71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Прямая соединительная линия 22"/>
              <p:cNvSpPr/>
              <p:nvPr/>
            </p:nvSpPr>
            <p:spPr>
              <a:xfrm flipV="1">
                <a:off x="4716360" y="1557360"/>
                <a:ext cx="1872000" cy="201564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1" name="TextBox 33"/>
            <p:cNvSpPr/>
            <p:nvPr/>
          </p:nvSpPr>
          <p:spPr>
            <a:xfrm>
              <a:off x="6732000" y="1125360"/>
              <a:ext cx="1943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почки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Группа 39"/>
          <p:cNvGrpSpPr/>
          <p:nvPr/>
        </p:nvGrpSpPr>
        <p:grpSpPr>
          <a:xfrm>
            <a:off x="5580000" y="2421000"/>
            <a:ext cx="3240000" cy="1368360"/>
            <a:chOff x="5580000" y="2421000"/>
            <a:chExt cx="3240000" cy="1368360"/>
          </a:xfrm>
        </p:grpSpPr>
        <p:grpSp>
          <p:nvGrpSpPr>
            <p:cNvPr id="113" name="Группа 28"/>
            <p:cNvGrpSpPr/>
            <p:nvPr/>
          </p:nvGrpSpPr>
          <p:grpSpPr>
            <a:xfrm>
              <a:off x="5580000" y="2421000"/>
              <a:ext cx="1440000" cy="1368360"/>
              <a:chOff x="5580000" y="2421000"/>
              <a:chExt cx="1440000" cy="1368360"/>
            </a:xfrm>
          </p:grpSpPr>
          <p:sp>
            <p:nvSpPr>
              <p:cNvPr id="114" name="Прямая соединительная линия 25"/>
              <p:cNvSpPr/>
              <p:nvPr/>
            </p:nvSpPr>
            <p:spPr>
              <a:xfrm>
                <a:off x="5651280" y="2421000"/>
                <a:ext cx="1297080" cy="10810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Прямая соединительная линия 27"/>
              <p:cNvSpPr/>
              <p:nvPr/>
            </p:nvSpPr>
            <p:spPr>
              <a:xfrm flipV="1">
                <a:off x="5580000" y="3502080"/>
                <a:ext cx="1440000" cy="28728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6" name="TextBox 34"/>
            <p:cNvSpPr/>
            <p:nvPr/>
          </p:nvSpPr>
          <p:spPr>
            <a:xfrm>
              <a:off x="7092000" y="3141360"/>
              <a:ext cx="1728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листья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Группа 40"/>
          <p:cNvGrpSpPr/>
          <p:nvPr/>
        </p:nvGrpSpPr>
        <p:grpSpPr>
          <a:xfrm>
            <a:off x="1042920" y="1268280"/>
            <a:ext cx="2952360" cy="1152720"/>
            <a:chOff x="1042920" y="1268280"/>
            <a:chExt cx="2952360" cy="1152720"/>
          </a:xfrm>
        </p:grpSpPr>
        <p:sp>
          <p:nvSpPr>
            <p:cNvPr id="118" name="Прямая соединительная линия 30"/>
            <p:cNvSpPr/>
            <p:nvPr/>
          </p:nvSpPr>
          <p:spPr>
            <a:xfrm flipH="1" flipV="1">
              <a:off x="2842920" y="1700280"/>
              <a:ext cx="1152360" cy="72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Box 35"/>
            <p:cNvSpPr/>
            <p:nvPr/>
          </p:nvSpPr>
          <p:spPr>
            <a:xfrm>
              <a:off x="1042920" y="1268280"/>
              <a:ext cx="1944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Arial"/>
                </a:rPr>
                <a:t>цвето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Группа 41"/>
          <p:cNvGrpSpPr/>
          <p:nvPr/>
        </p:nvGrpSpPr>
        <p:grpSpPr>
          <a:xfrm>
            <a:off x="1116000" y="3645000"/>
            <a:ext cx="3527280" cy="581400"/>
            <a:chOff x="1116000" y="3645000"/>
            <a:chExt cx="3527280" cy="581400"/>
          </a:xfrm>
        </p:grpSpPr>
        <p:sp>
          <p:nvSpPr>
            <p:cNvPr id="121" name="Прямая соединительная линия 32"/>
            <p:cNvSpPr/>
            <p:nvPr/>
          </p:nvSpPr>
          <p:spPr>
            <a:xfrm flipH="1">
              <a:off x="3132000" y="4005360"/>
              <a:ext cx="15112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TextBox 37"/>
            <p:cNvSpPr/>
            <p:nvPr/>
          </p:nvSpPr>
          <p:spPr>
            <a:xfrm>
              <a:off x="1116000" y="3645000"/>
              <a:ext cx="2015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Arial"/>
                </a:rPr>
                <a:t>стебель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8" descr="0c81727bde41"/>
          <p:cNvPicPr/>
          <p:nvPr/>
        </p:nvPicPr>
        <p:blipFill>
          <a:blip r:embed="rId1"/>
          <a:stretch/>
        </p:blipFill>
        <p:spPr>
          <a:xfrm>
            <a:off x="3986280" y="2874960"/>
            <a:ext cx="5157720" cy="398304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6633"/>
                </a:solidFill>
                <a:latin typeface="Garamond"/>
              </a:rPr>
              <a:t>Корень и побег</a:t>
            </a:r>
            <a:endParaRPr b="0" lang="en-US" sz="60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Arial"/>
              </a:rPr>
              <a:t>главные вегетативные органы растения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Picture 8" descr="0c81727bde41"/>
          <p:cNvPicPr/>
          <p:nvPr/>
        </p:nvPicPr>
        <p:blipFill>
          <a:blip r:embed="rId2"/>
          <a:stretch/>
        </p:blipFill>
        <p:spPr>
          <a:xfrm>
            <a:off x="0" y="2874960"/>
            <a:ext cx="5157720" cy="398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6633"/>
                </a:solidFill>
                <a:latin typeface="Garamond"/>
              </a:rPr>
              <a:t>Вегетативное размножение</a:t>
            </a:r>
            <a:endParaRPr b="0" lang="en-US" sz="48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28" name="Picture 2" descr="http://s40.radikal.ru/i088/0812/7f/b67bc75fca89.jpg"/>
          <p:cNvPicPr/>
          <p:nvPr/>
        </p:nvPicPr>
        <p:blipFill>
          <a:blip r:embed="rId1"/>
          <a:stretch/>
        </p:blipFill>
        <p:spPr>
          <a:xfrm>
            <a:off x="1332000" y="1413000"/>
            <a:ext cx="6696000" cy="46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Содержимое 4" descr=""/>
          <p:cNvPicPr/>
          <p:nvPr/>
        </p:nvPicPr>
        <p:blipFill>
          <a:blip r:embed="rId1"/>
          <a:stretch/>
        </p:blipFill>
        <p:spPr>
          <a:xfrm>
            <a:off x="457200" y="262080"/>
            <a:ext cx="8358120" cy="395604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8" descr="199_paporotnik1"/>
          <p:cNvPicPr/>
          <p:nvPr/>
        </p:nvPicPr>
        <p:blipFill>
          <a:blip r:embed="rId2"/>
          <a:stretch/>
        </p:blipFill>
        <p:spPr>
          <a:xfrm>
            <a:off x="5492880" y="4218120"/>
            <a:ext cx="2766960" cy="411480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5" descr="buddleja"/>
          <p:cNvPicPr/>
          <p:nvPr/>
        </p:nvPicPr>
        <p:blipFill>
          <a:blip r:embed="rId3"/>
          <a:stretch/>
        </p:blipFill>
        <p:spPr>
          <a:xfrm>
            <a:off x="1170000" y="4218120"/>
            <a:ext cx="2847960" cy="420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pic>
        <p:nvPicPr>
          <p:cNvPr id="133" name="Содержимое 3" descr=""/>
          <p:cNvPicPr/>
          <p:nvPr/>
        </p:nvPicPr>
        <p:blipFill>
          <a:blip r:embed="rId1"/>
          <a:stretch/>
        </p:blipFill>
        <p:spPr>
          <a:xfrm>
            <a:off x="390600" y="262080"/>
            <a:ext cx="8332560" cy="330984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6" descr="1178999859_f"/>
          <p:cNvPicPr/>
          <p:nvPr/>
        </p:nvPicPr>
        <p:blipFill>
          <a:blip r:embed="rId2"/>
          <a:stretch/>
        </p:blipFill>
        <p:spPr>
          <a:xfrm>
            <a:off x="5126040" y="3790800"/>
            <a:ext cx="3206880" cy="476280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4" descr="Campsis_radicans"/>
          <p:cNvPicPr/>
          <p:nvPr/>
        </p:nvPicPr>
        <p:blipFill>
          <a:blip r:embed="rId3"/>
          <a:stretch/>
        </p:blipFill>
        <p:spPr>
          <a:xfrm>
            <a:off x="811080" y="3790800"/>
            <a:ext cx="320688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6633"/>
                </a:solidFill>
                <a:latin typeface="Garamond"/>
              </a:rPr>
              <a:t>Сравните</a:t>
            </a:r>
            <a:endParaRPr b="0" lang="en-US" sz="66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Картинка 12 из 212956"/>
          <p:cNvPicPr/>
          <p:nvPr/>
        </p:nvPicPr>
        <p:blipFill>
          <a:blip r:embed="rId1"/>
          <a:stretch/>
        </p:blipFill>
        <p:spPr>
          <a:xfrm>
            <a:off x="469800" y="1487520"/>
            <a:ext cx="4314960" cy="49197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4" descr="Картинка 7 из 159123"/>
          <p:cNvPicPr/>
          <p:nvPr/>
        </p:nvPicPr>
        <p:blipFill>
          <a:blip r:embed="rId2"/>
          <a:stretch/>
        </p:blipFill>
        <p:spPr>
          <a:xfrm>
            <a:off x="4932360" y="1487520"/>
            <a:ext cx="3887640" cy="489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0T12:49:26Z</dcterms:created>
  <dc:creator>Лариса</dc:creator>
  <dc:description/>
  <dc:language>en-US</dc:language>
  <cp:lastModifiedBy>Мама</cp:lastModifiedBy>
  <dcterms:modified xsi:type="dcterms:W3CDTF">2012-09-14T19:31:42Z</dcterms:modified>
  <cp:revision>53</cp:revision>
  <dc:subject/>
  <dc:title>Как разрушаются камни.</dc:title>
</cp:coreProperties>
</file>